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3D2-8DA8-42F9-8962-B586524F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D51-E6CB-4C12-A5FF-EFC590C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9FD-4C1B-4192-AA53-3F2799D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EAD-F67F-4DE2-B153-1F6152A7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F4B-6DE2-4625-9567-7623319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EC3-DF4E-413D-A591-CBE3D019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9D4-FB79-4718-B5F8-2874D915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F10-1BE3-4990-BABE-1ED94AF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1B2-EA83-434F-8D58-79B33D0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C0A-9082-4C64-BDEE-C72B8A7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9CB-7F6E-48B7-BEAD-3A8CF46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B77-EE6C-426D-93E8-B41837F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4A5-2DEE-4B0B-A0A4-00EB4E38AC2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B75-B933-462F-9E4B-CB64E014407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97480" y="2709000"/>
            <a:ext cx="3885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牛顿第一定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牛顿第一定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八章    运动和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7"/>
          <p:cNvSpPr/>
          <p:nvPr/>
        </p:nvSpPr>
        <p:spPr>
          <a:xfrm>
            <a:off x="438120" y="3090960"/>
            <a:ext cx="80582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牛顿第一定律是在大量经验事实的基础上，用推理的方法概括出来的。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用实验直接证明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6560" y="719280"/>
            <a:ext cx="8060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”指物体不受力时，原来静止的总保持静止，原来运动的就总保持原来的速度和方向做匀速直线运动。两种状态必有其一，不同时存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38120" y="4799160"/>
            <a:ext cx="8061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牛顿第一定律说明了力和运动的关系：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力不是维持物体运动的原因，而是改变物体运动状态的原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"/>
          <p:cNvSpPr/>
          <p:nvPr/>
        </p:nvSpPr>
        <p:spPr>
          <a:xfrm>
            <a:off x="378000" y="192888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1273320" y="17715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究阻力对物体运动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5629320" y="15876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阻力越小，物体运动的距离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"/>
          <p:cNvSpPr/>
          <p:nvPr/>
        </p:nvSpPr>
        <p:spPr>
          <a:xfrm>
            <a:off x="1333440" y="403560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5"/>
          <p:cNvSpPr/>
          <p:nvPr/>
        </p:nvSpPr>
        <p:spPr>
          <a:xfrm>
            <a:off x="4095720" y="2652840"/>
            <a:ext cx="42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在没有受到力的作用时，总保持静止状态或匀速直线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"/>
          <p:cNvSpPr/>
          <p:nvPr/>
        </p:nvSpPr>
        <p:spPr>
          <a:xfrm>
            <a:off x="4121280" y="40291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是在大量经验事实的基础上推理概括出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7"/>
          <p:cNvSpPr/>
          <p:nvPr/>
        </p:nvSpPr>
        <p:spPr>
          <a:xfrm>
            <a:off x="4111560" y="537840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力是改变物体运动状态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左箭头 14"/>
          <p:cNvSpPr/>
          <p:nvPr/>
        </p:nvSpPr>
        <p:spPr>
          <a:xfrm flipH="1">
            <a:off x="5198400" y="1865160"/>
            <a:ext cx="360360" cy="287640"/>
          </a:xfrm>
          <a:prstGeom prst="leftArrow">
            <a:avLst>
              <a:gd name="adj1" fmla="val 50000"/>
              <a:gd name="adj2" fmla="val 49944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3807000" y="2908440"/>
            <a:ext cx="306360" cy="2724120"/>
          </a:xfrm>
          <a:custGeom>
            <a:avLst/>
            <a:gdLst>
              <a:gd name="textAreaLeft" fmla="*/ 195840 w 306360"/>
              <a:gd name="textAreaRight" fmla="*/ 306360 w 306360"/>
              <a:gd name="textAreaTop" fmla="*/ 66960 h 2724120"/>
              <a:gd name="textAreaBottom" fmla="*/ 2657160 h 27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0"/>
                  <a:pt x="10800" y="1700"/>
                </a:cubicBezTo>
                <a:lnTo>
                  <a:pt x="10800" y="9100"/>
                </a:lnTo>
                <a:cubicBezTo>
                  <a:pt x="10800" y="9950"/>
                  <a:pt x="5400" y="10800"/>
                  <a:pt x="0" y="10800"/>
                </a:cubicBezTo>
                <a:cubicBezTo>
                  <a:pt x="5400" y="10800"/>
                  <a:pt x="10800" y="11650"/>
                  <a:pt x="10800" y="12500"/>
                </a:cubicBezTo>
                <a:lnTo>
                  <a:pt x="10800" y="19900"/>
                </a:lnTo>
                <a:cubicBezTo>
                  <a:pt x="10800" y="207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8"/>
          <p:cNvSpPr/>
          <p:nvPr/>
        </p:nvSpPr>
        <p:spPr>
          <a:xfrm flipH="1">
            <a:off x="3317040" y="413712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1022400" y="1959120"/>
            <a:ext cx="298440" cy="2284200"/>
          </a:xfrm>
          <a:custGeom>
            <a:avLst/>
            <a:gdLst>
              <a:gd name="textAreaLeft" fmla="*/ 190800 w 298440"/>
              <a:gd name="textAreaRight" fmla="*/ 298800 w 298440"/>
              <a:gd name="textAreaTop" fmla="*/ 65160 h 2284200"/>
              <a:gd name="textAreaBottom" fmla="*/ 2219040 h 228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6"/>
                  <a:pt x="10800" y="1972"/>
                </a:cubicBezTo>
                <a:lnTo>
                  <a:pt x="10800" y="8828"/>
                </a:lnTo>
                <a:cubicBezTo>
                  <a:pt x="10800" y="9814"/>
                  <a:pt x="5400" y="10800"/>
                  <a:pt x="0" y="10800"/>
                </a:cubicBezTo>
                <a:cubicBezTo>
                  <a:pt x="5400" y="10800"/>
                  <a:pt x="10800" y="11786"/>
                  <a:pt x="10800" y="12772"/>
                </a:cubicBezTo>
                <a:lnTo>
                  <a:pt x="10800" y="19628"/>
                </a:lnTo>
                <a:cubicBezTo>
                  <a:pt x="10800" y="2061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e.cjn.cn/cjrb/res/1/20110815/17261313344832233.jpg"/>
          <p:cNvPicPr/>
          <p:nvPr/>
        </p:nvPicPr>
        <p:blipFill>
          <a:blip r:embed="rId1"/>
          <a:srcRect l="0" t="5854" r="0" b="0"/>
          <a:stretch/>
        </p:blipFill>
        <p:spPr>
          <a:xfrm>
            <a:off x="2835360" y="903240"/>
            <a:ext cx="2249280" cy="264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2843280" y="3876840"/>
            <a:ext cx="2441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的小球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停下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img1.gtimg.com/hb/pics/hv1/163/20/817/53130688.jpg"/>
          <p:cNvPicPr/>
          <p:nvPr/>
        </p:nvPicPr>
        <p:blipFill>
          <a:blip r:embed="rId2"/>
          <a:stretch/>
        </p:blipFill>
        <p:spPr>
          <a:xfrm>
            <a:off x="5365800" y="909720"/>
            <a:ext cx="3454200" cy="2646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0"/>
          <p:cNvSpPr/>
          <p:nvPr/>
        </p:nvSpPr>
        <p:spPr>
          <a:xfrm>
            <a:off x="5823000" y="3876840"/>
            <a:ext cx="2720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快速转动的陀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停下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3"/>
          <a:stretch/>
        </p:blipFill>
        <p:spPr>
          <a:xfrm>
            <a:off x="936720" y="808200"/>
            <a:ext cx="1261800" cy="2668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257040" y="3876840"/>
            <a:ext cx="2581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滑板车最终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停下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"/>
          <p:cNvGrpSpPr/>
          <p:nvPr/>
        </p:nvGrpSpPr>
        <p:grpSpPr>
          <a:xfrm>
            <a:off x="1444680" y="5448240"/>
            <a:ext cx="6462720" cy="793800"/>
            <a:chOff x="1444680" y="5448240"/>
            <a:chExt cx="6462720" cy="793800"/>
          </a:xfrm>
        </p:grpSpPr>
        <p:sp>
          <p:nvSpPr>
            <p:cNvPr id="51" name="副标题 2"/>
            <p:cNvSpPr/>
            <p:nvPr/>
          </p:nvSpPr>
          <p:spPr>
            <a:xfrm>
              <a:off x="2017440" y="5644080"/>
              <a:ext cx="58899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运动的物体为什么会停下来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？"/>
            <p:cNvPicPr/>
            <p:nvPr/>
          </p:nvPicPr>
          <p:blipFill>
            <a:blip r:embed="rId4"/>
            <a:stretch/>
          </p:blipFill>
          <p:spPr>
            <a:xfrm>
              <a:off x="1444680" y="5448240"/>
              <a:ext cx="594720" cy="79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"/>
          <p:cNvSpPr/>
          <p:nvPr/>
        </p:nvSpPr>
        <p:spPr>
          <a:xfrm>
            <a:off x="1339920" y="2532240"/>
            <a:ext cx="654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会通过实验探究阻力对运动的影响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理解牛顿第一定律的含义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重难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529080" y="1566720"/>
            <a:ext cx="18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43080" y="1393920"/>
            <a:ext cx="554508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自古以来，就有很多人认为：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物体的运动需要力来维持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287880" y="4483080"/>
            <a:ext cx="554508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伽利略认为：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物体的运动不需要力来维持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运动的物体之所以停下来，是因为受到了阻力的作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矩形 10" descr=""/>
          <p:cNvPicPr/>
          <p:nvPr/>
        </p:nvPicPr>
        <p:blipFill>
          <a:blip r:embed="rId1"/>
          <a:stretch/>
        </p:blipFill>
        <p:spPr>
          <a:xfrm>
            <a:off x="3635280" y="3184560"/>
            <a:ext cx="2146320" cy="1320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3160800" y="2825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通过实验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6058080" y="614520"/>
            <a:ext cx="2643120" cy="279864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6147"/>
          <p:cNvGrpSpPr/>
          <p:nvPr/>
        </p:nvGrpSpPr>
        <p:grpSpPr>
          <a:xfrm>
            <a:off x="257040" y="415800"/>
            <a:ext cx="3014640" cy="806760"/>
            <a:chOff x="257040" y="415800"/>
            <a:chExt cx="3014640" cy="806760"/>
          </a:xfrm>
        </p:grpSpPr>
        <p:sp>
          <p:nvSpPr>
            <p:cNvPr id="62" name="矩形 7"/>
            <p:cNvSpPr/>
            <p:nvPr/>
          </p:nvSpPr>
          <p:spPr>
            <a:xfrm>
              <a:off x="816840" y="415800"/>
              <a:ext cx="1671840" cy="7599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6"/>
            <p:cNvSpPr/>
            <p:nvPr/>
          </p:nvSpPr>
          <p:spPr>
            <a:xfrm>
              <a:off x="257040" y="703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7"/>
            <p:cNvSpPr/>
            <p:nvPr/>
          </p:nvSpPr>
          <p:spPr>
            <a:xfrm>
              <a:off x="618840" y="6526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6151"/>
            <p:cNvSpPr/>
            <p:nvPr/>
          </p:nvSpPr>
          <p:spPr>
            <a:xfrm>
              <a:off x="1384200" y="6894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阻力对运动的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6152"/>
            <p:cNvSpPr/>
            <p:nvPr/>
          </p:nvSpPr>
          <p:spPr>
            <a:xfrm>
              <a:off x="257040" y="7020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伽利略"/>
          <p:cNvPicPr/>
          <p:nvPr/>
        </p:nvPicPr>
        <p:blipFill>
          <a:blip r:embed="rId3"/>
          <a:stretch/>
        </p:blipFill>
        <p:spPr>
          <a:xfrm>
            <a:off x="343080" y="3224160"/>
            <a:ext cx="2230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87160" y="1468440"/>
            <a:ext cx="22604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设计目的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设计思路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相同条件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同条件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器材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4160" indent="-16416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验方法：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867040" y="157968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究物体的运动是否需要力维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867040" y="21319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小车为例，尽量减小力对小车运动的影响，看小车运动的情况。（怎样使小车运动更远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867040" y="342900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同的小车、小车开始运动速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867040" y="454500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面不同即阻力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867040" y="50911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木板、小车、棉布、毛巾、斜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867040" y="56404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控制变量法、理想实验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843280" y="3824280"/>
            <a:ext cx="56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同一斜面、从同一高度静止开始下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560760" y="703440"/>
            <a:ext cx="2214360" cy="54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阻力对物体运动的影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2640" y="695160"/>
            <a:ext cx="1601640" cy="4899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演示实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0" t="0" r="0" b="73991"/>
          <a:stretch/>
        </p:blipFill>
        <p:spPr>
          <a:xfrm>
            <a:off x="571680" y="206856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0" t="37395" r="0" b="33352"/>
          <a:stretch/>
        </p:blipFill>
        <p:spPr>
          <a:xfrm>
            <a:off x="571680" y="3639960"/>
            <a:ext cx="670536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直接连接符 6"/>
          <p:cNvSpPr/>
          <p:nvPr/>
        </p:nvSpPr>
        <p:spPr>
          <a:xfrm flipH="1">
            <a:off x="1413000" y="2049480"/>
            <a:ext cx="1440" cy="26449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标注 11"/>
          <p:cNvSpPr/>
          <p:nvPr/>
        </p:nvSpPr>
        <p:spPr>
          <a:xfrm>
            <a:off x="500040" y="5068800"/>
            <a:ext cx="2644920" cy="1013040"/>
          </a:xfrm>
          <a:prstGeom prst="wedgeRoundRectCallout">
            <a:avLst>
              <a:gd name="adj1" fmla="val -6953"/>
              <a:gd name="adj2" fmla="val -95444"/>
              <a:gd name="adj3" fmla="val 16667"/>
            </a:avLst>
          </a:prstGeom>
          <a:solidFill>
            <a:srgbClr val="4bacc6"/>
          </a:solidFill>
          <a:ln w="255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在同一斜面的同一高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标注 12"/>
          <p:cNvSpPr/>
          <p:nvPr/>
        </p:nvSpPr>
        <p:spPr>
          <a:xfrm>
            <a:off x="857160" y="996840"/>
            <a:ext cx="2273400" cy="1000080"/>
          </a:xfrm>
          <a:prstGeom prst="wedgeRoundRectCallout">
            <a:avLst>
              <a:gd name="adj1" fmla="val 3699"/>
              <a:gd name="adj2" fmla="val 73490"/>
              <a:gd name="adj3" fmla="val 16667"/>
            </a:avLst>
          </a:prstGeom>
          <a:solidFill>
            <a:srgbClr val="8f7aaf"/>
          </a:solidFill>
          <a:ln w="255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同一小车从静止下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标注 13"/>
          <p:cNvSpPr/>
          <p:nvPr/>
        </p:nvSpPr>
        <p:spPr>
          <a:xfrm>
            <a:off x="4427640" y="1055520"/>
            <a:ext cx="2428920" cy="857520"/>
          </a:xfrm>
          <a:prstGeom prst="wedgeRoundRectCallout">
            <a:avLst>
              <a:gd name="adj1" fmla="val -115620"/>
              <a:gd name="adj2" fmla="val 128888"/>
              <a:gd name="adj3" fmla="val 16667"/>
            </a:avLst>
          </a:prstGeom>
          <a:solidFill>
            <a:srgbClr val="ffffff"/>
          </a:solidFill>
          <a:ln w="255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到达斜面底端速度相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左大括号 14"/>
          <p:cNvSpPr/>
          <p:nvPr/>
        </p:nvSpPr>
        <p:spPr>
          <a:xfrm rot="16200000">
            <a:off x="3178080" y="1958760"/>
            <a:ext cx="285840" cy="2359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2359080"/>
              <a:gd name="textAreaBottom" fmla="*/ 2323440 h 235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5"/>
                  <a:pt x="10800" y="1049"/>
                </a:cubicBezTo>
                <a:lnTo>
                  <a:pt x="10800" y="9882"/>
                </a:lnTo>
                <a:cubicBezTo>
                  <a:pt x="10800" y="10407"/>
                  <a:pt x="5400" y="10931"/>
                  <a:pt x="0" y="10931"/>
                </a:cubicBezTo>
                <a:cubicBezTo>
                  <a:pt x="5400" y="10931"/>
                  <a:pt x="10800" y="11456"/>
                  <a:pt x="10800" y="11980"/>
                </a:cubicBezTo>
                <a:lnTo>
                  <a:pt x="10800" y="20551"/>
                </a:lnTo>
                <a:cubicBezTo>
                  <a:pt x="10800" y="2107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左大括号 15"/>
          <p:cNvSpPr/>
          <p:nvPr/>
        </p:nvSpPr>
        <p:spPr>
          <a:xfrm rot="16200000">
            <a:off x="3618000" y="3180960"/>
            <a:ext cx="198360" cy="3290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46800 h 3290760"/>
              <a:gd name="textAreaBottom" fmla="*/ 3243960 h 32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4"/>
                  <a:pt x="10800" y="988"/>
                </a:cubicBezTo>
                <a:lnTo>
                  <a:pt x="10800" y="9713"/>
                </a:lnTo>
                <a:cubicBezTo>
                  <a:pt x="10800" y="10207"/>
                  <a:pt x="5400" y="10701"/>
                  <a:pt x="0" y="10701"/>
                </a:cubicBezTo>
                <a:cubicBezTo>
                  <a:pt x="5400" y="10701"/>
                  <a:pt x="10800" y="11195"/>
                  <a:pt x="10800" y="11689"/>
                </a:cubicBezTo>
                <a:lnTo>
                  <a:pt x="10800" y="20612"/>
                </a:lnTo>
                <a:cubicBezTo>
                  <a:pt x="10800" y="2110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7463520" y="2502000"/>
            <a:ext cx="973440" cy="4899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棉布表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7463520" y="3989520"/>
            <a:ext cx="973440" cy="4899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木板表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4258800" y="5068800"/>
            <a:ext cx="1964160" cy="4899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比较小车滑行的距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395360"/>
          <a:ext cx="8381880" cy="2606760"/>
        </p:xfrm>
        <a:graphic>
          <a:graphicData uri="http://schemas.openxmlformats.org/drawingml/2006/table">
            <a:tbl>
              <a:tblPr/>
              <a:tblGrid>
                <a:gridCol w="1614600"/>
                <a:gridCol w="2119320"/>
                <a:gridCol w="2286000"/>
                <a:gridCol w="2361960"/>
              </a:tblGrid>
              <a:tr h="1052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表面状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棉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木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某表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6"/>
          <p:cNvSpPr/>
          <p:nvPr/>
        </p:nvSpPr>
        <p:spPr>
          <a:xfrm>
            <a:off x="2597040" y="2430360"/>
            <a:ext cx="83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2286000" y="296856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2133720" y="1704960"/>
            <a:ext cx="197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阻力的大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4191120" y="145728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车运动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距离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/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6507000" y="1474920"/>
            <a:ext cx="227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车速度减小的情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6934320" y="243036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6572160" y="292896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1"/>
          <p:cNvSpPr/>
          <p:nvPr/>
        </p:nvSpPr>
        <p:spPr>
          <a:xfrm>
            <a:off x="534960" y="4937040"/>
            <a:ext cx="8312040" cy="1356840"/>
          </a:xfrm>
          <a:prstGeom prst="roundRect">
            <a:avLst>
              <a:gd name="adj" fmla="val 9491"/>
            </a:avLst>
          </a:prstGeom>
          <a:solidFill>
            <a:srgbClr val="ffffff"/>
          </a:solidFill>
          <a:ln w="255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平面越光滑，受到的阻力越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________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，小车运动的距离越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________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，速度减小得越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_______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2"/>
          <p:cNvSpPr/>
          <p:nvPr/>
        </p:nvSpPr>
        <p:spPr>
          <a:xfrm>
            <a:off x="457200" y="4218120"/>
            <a:ext cx="1708200" cy="4899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  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"/>
          <p:cNvSpPr/>
          <p:nvPr/>
        </p:nvSpPr>
        <p:spPr>
          <a:xfrm>
            <a:off x="5786280" y="497844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4"/>
          <p:cNvSpPr/>
          <p:nvPr/>
        </p:nvSpPr>
        <p:spPr>
          <a:xfrm>
            <a:off x="1951200" y="56167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5"/>
          <p:cNvSpPr/>
          <p:nvPr/>
        </p:nvSpPr>
        <p:spPr>
          <a:xfrm>
            <a:off x="5786280" y="559584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2314440" y="346536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更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6572160" y="346536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更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47840" y="692280"/>
            <a:ext cx="1601640" cy="4899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实验记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583080" y="573120"/>
            <a:ext cx="1919160" cy="4899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进一步推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63440" y="1238400"/>
            <a:ext cx="3745080" cy="12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果物体受到的阻力为零，速度就不会减小，它将永远运动下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3924360" y="957240"/>
            <a:ext cx="4875120" cy="2895480"/>
            <a:chOff x="3924360" y="957240"/>
            <a:chExt cx="4875120" cy="2895480"/>
          </a:xfrm>
        </p:grpSpPr>
        <p:pic>
          <p:nvPicPr>
            <p:cNvPr id="112" name="Picture 11" descr="伽利略"/>
            <p:cNvPicPr/>
            <p:nvPr/>
          </p:nvPicPr>
          <p:blipFill>
            <a:blip r:embed="rId1"/>
            <a:stretch/>
          </p:blipFill>
          <p:spPr>
            <a:xfrm>
              <a:off x="6697440" y="957240"/>
              <a:ext cx="210204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4638960" y="1825920"/>
              <a:ext cx="1369440" cy="489960"/>
            </a:xfrm>
            <a:prstGeom prst="rect">
              <a:avLst/>
            </a:prstGeom>
            <a:noFill/>
            <a:ln w="12600">
              <a:solidFill>
                <a:srgbClr val="3857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析类似实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左箭头 8"/>
            <p:cNvSpPr/>
            <p:nvPr/>
          </p:nvSpPr>
          <p:spPr>
            <a:xfrm>
              <a:off x="3924360" y="2417760"/>
              <a:ext cx="2714760" cy="356760"/>
            </a:xfrm>
            <a:prstGeom prst="leftArrow">
              <a:avLst>
                <a:gd name="adj1" fmla="val 50000"/>
                <a:gd name="adj2" fmla="val 49990"/>
              </a:avLst>
            </a:prstGeom>
            <a:noFill/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4"/>
          <p:cNvGrpSpPr/>
          <p:nvPr/>
        </p:nvGrpSpPr>
        <p:grpSpPr>
          <a:xfrm>
            <a:off x="431640" y="3159000"/>
            <a:ext cx="4875480" cy="3065760"/>
            <a:chOff x="431640" y="3159000"/>
            <a:chExt cx="4875480" cy="3065760"/>
          </a:xfrm>
        </p:grpSpPr>
        <p:pic>
          <p:nvPicPr>
            <p:cNvPr id="116" name="圆角右箭头 10" descr=""/>
            <p:cNvPicPr/>
            <p:nvPr/>
          </p:nvPicPr>
          <p:blipFill>
            <a:blip r:embed="rId2"/>
            <a:stretch/>
          </p:blipFill>
          <p:spPr>
            <a:xfrm>
              <a:off x="2578680" y="3159000"/>
              <a:ext cx="272844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9" descr=""/>
            <p:cNvPicPr/>
            <p:nvPr/>
          </p:nvPicPr>
          <p:blipFill>
            <a:blip r:embed="rId3"/>
            <a:stretch/>
          </p:blipFill>
          <p:spPr>
            <a:xfrm>
              <a:off x="431640" y="3517200"/>
              <a:ext cx="2086920" cy="27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3"/>
            <p:cNvSpPr/>
            <p:nvPr/>
          </p:nvSpPr>
          <p:spPr>
            <a:xfrm>
              <a:off x="2612160" y="4898880"/>
              <a:ext cx="2298960" cy="1044360"/>
            </a:xfrm>
            <a:prstGeom prst="rect">
              <a:avLst/>
            </a:prstGeom>
            <a:noFill/>
            <a:ln w="12600">
              <a:solidFill>
                <a:srgbClr val="3857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总结伽利略等人的研究成果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19468"/>
          <p:cNvSpPr/>
          <p:nvPr/>
        </p:nvSpPr>
        <p:spPr>
          <a:xfrm>
            <a:off x="5354640" y="4037040"/>
            <a:ext cx="3600360" cy="1281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牛顿第一定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物理学基本定律之一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698400" y="3859200"/>
            <a:ext cx="452916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“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一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”适用于所有物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98400" y="4743360"/>
            <a:ext cx="68263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.“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没有受到力的作用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”是定律成立的条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8400" y="5626080"/>
            <a:ext cx="373068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.“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”一直、不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858600" y="3073320"/>
            <a:ext cx="973080" cy="489960"/>
          </a:xfrm>
          <a:prstGeom prst="rect">
            <a:avLst/>
          </a:prstGeom>
          <a:solidFill>
            <a:srgbClr val="54823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472c4"/>
                </a:solidFill>
                <a:latin typeface="黑体"/>
                <a:ea typeface="黑体"/>
              </a:rPr>
              <a:t>定律解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0486"/>
          <p:cNvSpPr/>
          <p:nvPr/>
        </p:nvSpPr>
        <p:spPr>
          <a:xfrm>
            <a:off x="536400" y="1362240"/>
            <a:ext cx="804888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在没有受到力的作用时，总保持静止状态或匀速直线运动状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147"/>
          <p:cNvGrpSpPr/>
          <p:nvPr/>
        </p:nvGrpSpPr>
        <p:grpSpPr>
          <a:xfrm>
            <a:off x="247680" y="363600"/>
            <a:ext cx="2230920" cy="806760"/>
            <a:chOff x="247680" y="363600"/>
            <a:chExt cx="2230920" cy="806760"/>
          </a:xfrm>
        </p:grpSpPr>
        <p:sp>
          <p:nvSpPr>
            <p:cNvPr id="127" name="矩形 7"/>
            <p:cNvSpPr/>
            <p:nvPr/>
          </p:nvSpPr>
          <p:spPr>
            <a:xfrm>
              <a:off x="807120" y="363600"/>
              <a:ext cx="167148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"/>
            <p:cNvSpPr/>
            <p:nvPr/>
          </p:nvSpPr>
          <p:spPr>
            <a:xfrm>
              <a:off x="247680" y="65088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7"/>
            <p:cNvSpPr/>
            <p:nvPr/>
          </p:nvSpPr>
          <p:spPr>
            <a:xfrm>
              <a:off x="609480" y="6001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6151"/>
            <p:cNvSpPr/>
            <p:nvPr/>
          </p:nvSpPr>
          <p:spPr>
            <a:xfrm>
              <a:off x="1694880" y="6368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牛顿第一定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6152"/>
            <p:cNvSpPr/>
            <p:nvPr/>
          </p:nvSpPr>
          <p:spPr>
            <a:xfrm>
              <a:off x="247680" y="6498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8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8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38:49Z</dcterms:modified>
  <cp:revision>2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